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505B-B04C-4FCE-8536-FBA09E76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4F74-3681-462D-BCC4-7BB77418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E798-738C-4A73-A28B-848AD705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9E2D-E048-4027-82DF-580932B9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4AF8-D4AC-494F-8858-1B3FA76C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622E-53D6-4C31-BEDA-697CDFC8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4DE8-C030-4D78-BCDC-844CCE8D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2BEB-2EEC-4FB6-BA3C-948FF200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0DAE-3004-47BC-A76A-949D909D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4E14-7D55-46C9-A5FB-A8376065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FC87-C8F5-46DE-90A1-C0EB1CA9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6C33-4AB4-4AAD-A720-79EEA330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A2FA-61E9-49E4-9605-F0A28F96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FF78-6CEF-4424-8B73-4DF75C8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DD93-2505-4F21-BA4C-4FA8C05E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3E85-E370-441D-8755-E4B4B33F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E1BE-CF21-4FE5-85F2-32F9332C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53DE-72E8-42ED-A1AE-1A417A25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7295-3614-49F5-A928-982CD5BC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8E45-7F24-4E65-85A1-83BB745F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9E42-D4F3-4778-B138-0A5A0D0A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CBA8-DAD8-49A7-BA7F-55F2352A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3CA2-8FD4-421F-8431-153F429F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38D3-D3BE-44B4-B06D-3BE36B42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3547-038F-4522-B5E5-1202D5076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8DB3-0446-4112-AACB-40870D6B8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HMU1tOSOys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KaPAZAO4IY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17XS-ZxFOY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eKzE1mahNs" TargetMode="External"/><Relationship Id="rId2" Type="http://schemas.openxmlformats.org/officeDocument/2006/relationships/hyperlink" Target="http://www.youtube.com/watch?v=IpfzaqIuR34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920" y="1828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onsumer Responsibilities, Rights, and Protectionis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4080" y="44953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HS Business Edu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Consumer Pub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magazin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am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ranging from bottled iced teas to travel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tions such as Consumer Reports and Consumers’ Research Magazine give detailed information about goods that have been tested and ra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 at 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mo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le is one that offers a special buy on a new product or a product that is in seas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held when consum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rc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down, such as after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le is a sale to clear out goods that are going ou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a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are no longer prof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, these sales make room for new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rchand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ss lea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dvertised products that sell at a loss to bring customers into a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w price is intended to attract more customers into the store to hopefully buy mo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fi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Shopping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pping lists cut down on unplanned buying of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mpu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ying is the act of making unplanned purchases and can ruin a consumer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why do you think most convenience store have candy and/or gum at the front of the st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also save you money because you can decide in advance what to buy and how much to s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Labels and Warran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ad a produc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fore you bu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d be surprised at what companies are required to state on the label by federal law – it might make you put the produc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items come with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ran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eaning a writte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uarant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manufacturer or distributor that states the conditions under which the product can be returned, replaced, or re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onsumer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2, Presid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ohn F. Kenne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lined what he called the Consum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ll of R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 bill stated that every person has four basic Consumer Righ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be in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cho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saf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be he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Be In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consumer, you have the right to receive accurat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Businesses are required to provide certa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tai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bout their produc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Drug companies must list the complete contents of every medicin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have the right to choose from a wide variety of goods and services.  Businesses compete with each other to sell their products to consumers – competition provid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o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government has the power to use Antitrust laws to break up monopolies or keep them from form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he right to products that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se.  Product Liability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gal respons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manufacturers have to make a safe product.  Federal laws ensure that clothing, food, toys, and other items will not harm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Tools and appliances must include safety devices for you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PSIA – Good or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Be He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who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products or services have a right to be heard.  You have the right to let the company know you’re not happy.  Businesses rely on custom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Buy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u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erson who selects, purchases, uses, and disposes of good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buying goods and/or services, consumer must make 4 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u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u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u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onsumer Rights Exten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years, three other rights were ad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have problems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consum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to Have Problems Corr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ducts don’t work properly after they’re purchased, consumers have the right for the products to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Either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si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which the product was bought or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ufactur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which the product was made should fix th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Consumer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have the right to learn how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 works.  You should know how to get the best value and satisfaction for your mone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businesses might not operate in the best interest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u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ome might try a tactic know as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it and 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sales tactic in which buyers are tempted by an advertised bargain but are then persuaded to buy a more expensive item instea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arpet Cleaning S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s have a right to be treated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ect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rt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ner.  You have the right to expect prompt delivery of goods or services that meet the standard of quality a business claims.  You also have the right to be served with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crim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basis of your race, gender, income, or 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Protec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onsumer Protection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s ago, smart shoppers understood the Latin phras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veat emp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, “let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wa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s have changed, and the phrase that now guides consumer transaction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veat vendi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, “let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l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wa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Protec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laws have been enacted to regulate and restrict business practices to preserv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et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tect consumers.  These laws protect agains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hon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lers, unreasonable credit terms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nsa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s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slabe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roduc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Credit Protection Act:  Requires those who give credit to reveal all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rms and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ir credit agree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Protectionism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Discrimination Laws:  Price discrimination is the act of charging more than one price for the sam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service in differ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o differ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ir Packaging and Labeling Act:  Requires manufacturers’ labels to truthfully list a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redi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raw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e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produ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Protectionism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ling-o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le:  When you buy something at a location that is not the seller’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ma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siness location, you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siness days to cancel contracts for most purchas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A Mary Kay “makeup”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Protectionism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uth-in-Adverti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s:  Under these laws, advertising must be truthful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n-dece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dvertisers must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ack up their clai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TC (Federal Trade Commission) regulates false advertising on the national level and has the power to issue a cease and desist ord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orders are legally binding orders to stop a practice that would mislead the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ding What to 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consumers have chosen what product to buy, consumers will decide to buy a Brand name or Generic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Name refers to the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e” for a product or service produced by a particular compan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ers typically associat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brand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Name refers to plainly labeled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-br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s that are sold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ces than brand-name goo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same quality as brand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Taste Test – Generic vs.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pping by Mail, Phone, Fax, and/or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TC has established rules to protect consumers shopping by mail, phone, fax and/or interne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ers must ship goods with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promise in their catalogs or advertisements.  If not time is stated, sellers must ship goods with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ys after receiving an ord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ers must notify you of an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hipment and give you a postcard or other free means of responding to the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he right to cancel orders and get your money back if time limits are not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form Commercial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laws that regulate commercial busines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UCC protects the economic interests of buyers and sellers in contracts.  It also regulates sal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ran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rranty:  Is explicitly stated (in writing or verbally) and specifies the conditions under which the product can be returned, replaced, or repa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rranty:  A purchase found to be defective within the warranty period will be repaired or replaced at no cost to the purchas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rranty:  Covers only certain parts of the product or requires the customer to bear some of the expense in case repairs are need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ding When to 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s for many items change during different times of the year s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tpo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planning can sometimes save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You’d probably save your business more money if you bought an Air Conditioner in the fall vs. the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ding Where to 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factors affect a consumer’s decision on where to sho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s of goods and services s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ding How Much to P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ari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pping is comparing the prices an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peting brands or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do when making a big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, the highest price doesn’t always mean the highes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to 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have to decide what a bargain is to them and can become a smart consumer 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dvance.  Before making a purchase, a smart consumer should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vertis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onsum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bl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p a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hopp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b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warra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Advertis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 wise consumer, you must learn how to read ads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will be helpful.  Most ads are one of 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ertising attempts to convince consumers with facts and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ries to persuade buyers to choose a specific product because it is the best one for their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mo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ertising appeals to people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it might suggest that if consumers buy a particular car, they will be pop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Emotional 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Emotional Tw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roups of two, create two separate advertisements on a sheet of notebook paper for our new sports energy drink, “Hustle.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dvertisement should be a “rational” one and the other advertisement should be an “emotional”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3:15:29Z</dcterms:created>
  <dc:creator>Erin</dc:creator>
  <dc:description/>
  <dc:language>en-US</dc:language>
  <cp:lastModifiedBy>user</cp:lastModifiedBy>
  <dcterms:modified xsi:type="dcterms:W3CDTF">2012-03-06T14:20:01Z</dcterms:modified>
  <cp:revision>25</cp:revision>
  <dc:subject/>
  <dc:title>Consumer Responsibilities, Rights, and Protection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